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704-EAE7-46DD-9762-6F8DABF5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EA3-A59F-455F-88E7-D923804C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D72E-91C7-4ED5-89FA-FA4C1325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D68-32A2-4E69-994E-406B5974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7C0-2086-4ED8-A390-7FBC7FBF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9C7-4DF2-46BE-A7D1-7A4F46AA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4E7-74BF-42D9-A881-D5D61BC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34F-59C6-48C1-9909-6BABF0F7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228-D32C-4FBE-B827-672CC69D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9E0-51F1-4E56-B77D-B807C16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F7B-6609-4512-AC64-8C77DE0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BE5-002B-4705-958B-D6D173B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560-E292-452C-8AB4-CB0300A7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Writing Lesson Goals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4" name="Picture 5" descr="inverse proportion.gif"/>
          <p:cNvPicPr/>
          <p:nvPr/>
        </p:nvPicPr>
        <p:blipFill>
          <a:blip r:embed="rId1"/>
          <a:stretch/>
        </p:blipFill>
        <p:spPr>
          <a:xfrm>
            <a:off x="182520" y="2895480"/>
            <a:ext cx="8732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using the Posing Powerful Questions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sense of the different purposes of questions related to the big ideas and the MATCH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connecting questions to assessment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backwards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Review Marian’s plenary on lesson goals…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742840"/>
            <a:ext cx="8229600" cy="388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er or write and wipe review of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riting 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consolidating questions provided (with matching expec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Big Idea the question best connects to and write an appropriate lesso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114800" y="4876920"/>
            <a:ext cx="4343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rley making question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course you are comfortable with, perhaps one you will be teaching in th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expectation that is connected to one of the 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a PPQT (Posing Powerful Questions Template)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sson goa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ecta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g Idea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solidation question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4267080" y="449568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e6f05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need to complete the Minds On and Action portion of the template at this point – we will work on these later in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 template that you created with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uld your consolidating question be more Assessment of Learning or Assessment for Learning?  Why?  Would this always be the case for consolidat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8:54:23Z</dcterms:created>
  <dc:creator>Liisa Suurtamm</dc:creator>
  <dc:description/>
  <dc:language>en-US</dc:language>
  <cp:lastModifiedBy>Liisa Suurtamm</cp:lastModifiedBy>
  <dcterms:modified xsi:type="dcterms:W3CDTF">2010-08-10T23:45:19Z</dcterms:modified>
  <cp:revision>4</cp:revision>
  <dc:subject/>
  <dc:title>Writing Lesson Goals</dc:title>
</cp:coreProperties>
</file>